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71F3-B7B4-4ACB-8E3C-9335BB03C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6230-DC57-48AC-A085-E1EFE764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CE02-CF02-4777-BCF0-88F2FD673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1155-6853-41FA-8DC9-64C1DD761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D58C-D345-498D-9996-633A1928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386C-DCDC-43A5-9734-D27FB3D2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29F0-A986-4B53-B2A6-C6F4F505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8144-CE6F-407D-875C-8C2F46DE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14BC-456D-491C-881B-48B26E24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2D8C-A314-4E8D-A5ED-2A24C3AD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EDC3-77A5-41D8-BBED-5766C1B3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702A-AAEC-406B-A62B-E5A9399F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EBAA-2039-4D13-8ECA-7EE11E12DAA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3"/>
          <a:stretch/>
        </p:blipFill>
        <p:spPr>
          <a:xfrm>
            <a:off x="260280" y="1125360"/>
            <a:ext cx="8621640" cy="532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4"/>
          <a:stretch/>
        </p:blipFill>
        <p:spPr>
          <a:xfrm>
            <a:off x="2944800" y="3503520"/>
            <a:ext cx="2209680" cy="660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"/>
          <p:cNvPicPr/>
          <p:nvPr/>
        </p:nvPicPr>
        <p:blipFill>
          <a:blip r:embed="rId5"/>
          <a:stretch/>
        </p:blipFill>
        <p:spPr>
          <a:xfrm>
            <a:off x="239760" y="4437000"/>
            <a:ext cx="4924440" cy="792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"/>
          <p:cNvPicPr/>
          <p:nvPr/>
        </p:nvPicPr>
        <p:blipFill>
          <a:blip r:embed="rId6"/>
          <a:stretch/>
        </p:blipFill>
        <p:spPr>
          <a:xfrm>
            <a:off x="239760" y="5373720"/>
            <a:ext cx="49147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2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468360" y="1549440"/>
            <a:ext cx="8351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324000" y="574344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كافر إذا رأى أن المؤمن قد عاهد ثم غدر به لم يبق له وثوق بالدين وقد يصده ذلك عن الدخول في الإسل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1933560" y="981000"/>
            <a:ext cx="6970680" cy="622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4"/>
          <a:stretch/>
        </p:blipFill>
        <p:spPr>
          <a:xfrm>
            <a:off x="2936880" y="2662200"/>
            <a:ext cx="5956200" cy="546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"/>
          <p:cNvPicPr/>
          <p:nvPr/>
        </p:nvPicPr>
        <p:blipFill>
          <a:blip r:embed="rId5"/>
          <a:stretch/>
        </p:blipFill>
        <p:spPr>
          <a:xfrm>
            <a:off x="434880" y="4653000"/>
            <a:ext cx="8494920" cy="114300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324000" y="3141720"/>
            <a:ext cx="8569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صب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مل الصالحا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يمان ب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324000" y="1701720"/>
            <a:ext cx="85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كافر إذا رأى أن المؤمن قد عاهد ثم غدر به لم يبق له وثوق بالدين وقد يصده ذلك عن الدخول في الإسل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32"/>
          <a:stretch/>
        </p:blipFill>
        <p:spPr>
          <a:xfrm>
            <a:off x="324000" y="1484280"/>
            <a:ext cx="853416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33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87640" y="4565520"/>
            <a:ext cx="346716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مربع نص 1"/>
          <p:cNvSpPr/>
          <p:nvPr/>
        </p:nvSpPr>
        <p:spPr>
          <a:xfrm>
            <a:off x="250920" y="1844640"/>
            <a:ext cx="8645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أمر الله تعالى بمكارم الأخلاق ونهى عن كل قبيح ومنها في هذه الآيات تحريم الأيمان الكاذب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455760" y="981000"/>
            <a:ext cx="84405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79280" y="1066680"/>
            <a:ext cx="878544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324000" y="2481120"/>
            <a:ext cx="8496000" cy="4116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2"/>
          <a:stretch/>
        </p:blipFill>
        <p:spPr>
          <a:xfrm>
            <a:off x="324000" y="969840"/>
            <a:ext cx="8662680" cy="129564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395280" y="5267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آ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915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فن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58" name="مستطيل 1"/>
          <p:cNvSpPr/>
          <p:nvPr/>
        </p:nvSpPr>
        <p:spPr>
          <a:xfrm>
            <a:off x="8604360" y="1773360"/>
            <a:ext cx="382320" cy="36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خداع الناس بالأيمان الكاذبة وغيرها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زاء الأيمان الكاذب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ؤدي إلى هلاك صاحبها في الدنيا والآخ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سبب الأيمان الكاذبة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صد عن سبيل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66760" y="3068640"/>
            <a:ext cx="8666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أيمان الكاذبة تسبب الصد عن سبيل الل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الكافر إذا رأى أن المؤمنين قد عاهده ثم غدر به لم يبق له وثوق بالدين وقد يصده ذلك عن الدخول في الإ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407664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فريط في دين الله عز وجل لمصالح دنيوية زائل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ذر منه الشرع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4487760"/>
            <a:ext cx="8665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تعظيم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عظيم الإقسام به وعدم الحنث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4991040"/>
            <a:ext cx="86659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زاء الله تعالى للصابرين المتمسكين بدينهم وعهدهم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زاء حس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0" name="مربع نص 1"/>
          <p:cNvSpPr/>
          <p:nvPr/>
        </p:nvSpPr>
        <p:spPr>
          <a:xfrm>
            <a:off x="250920" y="1844640"/>
            <a:ext cx="8629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تؤدي إلى هلاك صاحبها في الدنيا والآخ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من أسباب الصد عن سبيل ال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9" descr=""/>
          <p:cNvPicPr/>
          <p:nvPr/>
        </p:nvPicPr>
        <p:blipFill>
          <a:blip r:embed="rId3"/>
          <a:stretch/>
        </p:blipFill>
        <p:spPr>
          <a:xfrm>
            <a:off x="1585800" y="981000"/>
            <a:ext cx="72946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5T21:02:10Z</dcterms:modified>
  <cp:revision>1924</cp:revision>
  <dc:subject/>
  <dc:title>عرض تقديمي في PowerPoint</dc:title>
</cp:coreProperties>
</file>